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92D8-20D4-43D3-A593-135D2E76B2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5F5E-1014-4030-A08B-9D1AE954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4E96-2CEB-4D20-9171-40D4E252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9963-0B43-411C-92F3-F7188E6A0F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6B48-6448-4FC8-8E72-F72E6688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CE68-E10E-47C7-93A1-BD966C81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B305-24B6-4593-B01F-903437E7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8010-4D99-465F-8DF0-EF46AFEB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CDAE-4FDE-4633-9137-F5B86FFD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028A-E0F9-412E-BB3F-BE7EC99A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71F7-CC40-425D-A443-EF18E6B6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6F8C-D29C-4F65-B867-D916ABA9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BB67-643E-480F-A8EB-6666BF81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iomass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Animation licensed by The Science Museum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bioma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s it used to make electricit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slide 1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use the prompts to wri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5:59Z</dcterms:modified>
  <cp:revision>35</cp:revision>
  <dc:subject/>
  <dc:title>  </dc:title>
</cp:coreProperties>
</file>